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9DB3-807D-4168-A2F6-148366753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FC15-0828-4C26-81BA-E47391182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645D-B5E7-4AF6-A69B-838C6ABF9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7E6C-29FC-4CDB-B472-873A1CCC9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D1A0-220F-4CAA-B65B-95490B245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B95E-520B-48DF-9A82-B0A12B3E4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DF68-6668-4A42-B752-1E07A54E1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88F7-5973-4F8E-8AD3-73079028B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2B0A-9210-40FD-8C54-53201161B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D0E7-B869-46D3-AF99-F7A9199C2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AB77-CAD7-49A8-85C8-81BFA905F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A9AE-DA12-4B7B-BA26-8DD35597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3AAA3-C43E-4E06-AB26-150166D091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" Target="slide10.xml"/><Relationship Id="rId7" Type="http://schemas.openxmlformats.org/officeDocument/2006/relationships/slide" Target="slide12.xml"/><Relationship Id="rId8" Type="http://schemas.openxmlformats.org/officeDocument/2006/relationships/slide" Target="slide14.xml"/><Relationship Id="rId9" Type="http://schemas.openxmlformats.org/officeDocument/2006/relationships/slide" Target="slide16.xml"/><Relationship Id="rId10" Type="http://schemas.openxmlformats.org/officeDocument/2006/relationships/slide" Target="slide18.xml"/><Relationship Id="rId11" Type="http://schemas.openxmlformats.org/officeDocument/2006/relationships/slide" Target="slide20.xml"/><Relationship Id="rId12" Type="http://schemas.openxmlformats.org/officeDocument/2006/relationships/slide" Target="slide22.xml"/><Relationship Id="rId13" Type="http://schemas.openxmlformats.org/officeDocument/2006/relationships/slide" Target="slide22.xml"/><Relationship Id="rId14" Type="http://schemas.openxmlformats.org/officeDocument/2006/relationships/slide" Target="slide24.xml"/><Relationship Id="rId15" Type="http://schemas.openxmlformats.org/officeDocument/2006/relationships/slide" Target="slide26.xml"/><Relationship Id="rId16" Type="http://schemas.openxmlformats.org/officeDocument/2006/relationships/slide" Target="slide28.xml"/><Relationship Id="rId17" Type="http://schemas.openxmlformats.org/officeDocument/2006/relationships/slide" Target="slide30.xml"/><Relationship Id="rId18" Type="http://schemas.openxmlformats.org/officeDocument/2006/relationships/slide" Target="slide32.xml"/><Relationship Id="rId19" Type="http://schemas.openxmlformats.org/officeDocument/2006/relationships/slide" Target="slide34.xml"/><Relationship Id="rId20" Type="http://schemas.openxmlformats.org/officeDocument/2006/relationships/slide" Target="slide36.xml"/><Relationship Id="rId21" Type="http://schemas.openxmlformats.org/officeDocument/2006/relationships/slide" Target="slide38.xml"/><Relationship Id="rId22" Type="http://schemas.openxmlformats.org/officeDocument/2006/relationships/slide" Target="slide40.xml"/><Relationship Id="rId23" Type="http://schemas.openxmlformats.org/officeDocument/2006/relationships/slide" Target="slide42.xml"/><Relationship Id="rId24" Type="http://schemas.openxmlformats.org/officeDocument/2006/relationships/slide" Target="slide44.xml"/><Relationship Id="rId25" Type="http://schemas.openxmlformats.org/officeDocument/2006/relationships/slide" Target="slide44.xml"/><Relationship Id="rId26" Type="http://schemas.openxmlformats.org/officeDocument/2006/relationships/slide" Target="slide48.xml"/><Relationship Id="rId27" Type="http://schemas.openxmlformats.org/officeDocument/2006/relationships/slide" Target="slide50.xml"/><Relationship Id="rId28" Type="http://schemas.openxmlformats.org/officeDocument/2006/relationships/slide" Target="slide2.xml"/><Relationship Id="rId29" Type="http://schemas.openxmlformats.org/officeDocument/2006/relationships/slide" Target="slide2.xml"/><Relationship Id="rId3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  <a:hlinkClick r:id="rId2" action="ppaction://hlinksldjump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  <a:hlinkClick r:id="rId4" action="ppaction://hlinksldjump"/>
              </a:rPr>
              <a:t>3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5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6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7" action="ppaction://hlinksldjump"/>
          </p:cNvPr>
          <p:cNvSpPr/>
          <p:nvPr/>
        </p:nvSpPr>
        <p:spPr>
          <a:xfrm>
            <a:off x="1905120" y="121932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8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9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10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1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2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  <a:hlinkClick r:id="rId13" action="ppaction://hlinksldjump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14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15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6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7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8" action="ppaction://hlinksldjump"/>
          </p:cNvPr>
          <p:cNvSpPr/>
          <p:nvPr/>
        </p:nvSpPr>
        <p:spPr>
          <a:xfrm>
            <a:off x="5486400" y="121932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9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20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21" action="ppaction://hlinksldjump"/>
          </p:cNvPr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22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23" action="ppaction://hlinksldjump"/>
          </p:cNvPr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24" action="ppaction://hlinksldjump"/>
          </p:cNvPr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25" action="ppaction://hlinksldjump"/>
          </p:cNvPr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26" action="ppaction://hlinksldjump"/>
          </p:cNvPr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27" action="ppaction://hlinksldjump"/>
          </p:cNvPr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28" action="ppaction://hlinksldjump"/>
          </p:cNvPr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  <a:hlinkClick r:id="rId29" action="ppaction://hlinksldjump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467480" y="0"/>
            <a:ext cx="1828800" cy="1143000"/>
          </a:xfrm>
          <a:prstGeom prst="rect">
            <a:avLst/>
          </a:prstGeom>
          <a:solidFill>
            <a:srgbClr val="3366ff"/>
          </a:solidFill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62720" y="0"/>
            <a:ext cx="1828800" cy="1143000"/>
          </a:xfrm>
          <a:prstGeom prst="rect">
            <a:avLst/>
          </a:prstGeom>
          <a:solidFill>
            <a:srgbClr val="3366ff"/>
          </a:solidFill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Wea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0"/>
            <a:ext cx="1828800" cy="1143000"/>
          </a:xfrm>
          <a:prstGeom prst="rect">
            <a:avLst/>
          </a:prstGeom>
          <a:solidFill>
            <a:srgbClr val="3366ff"/>
          </a:solidFill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Clou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733920" y="0"/>
            <a:ext cx="1828800" cy="1143000"/>
          </a:xfrm>
          <a:prstGeom prst="rect">
            <a:avLst/>
          </a:prstGeom>
          <a:solidFill>
            <a:srgbClr val="3366ff"/>
          </a:solidFill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Instr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Precipi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447920" y="1989360"/>
            <a:ext cx="6248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ce crystals tossed up and down forming layers before they fall to the grou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447920" y="3079440"/>
            <a:ext cx="624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hail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447920" y="4480920"/>
            <a:ext cx="624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Represents thi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981080" y="685800"/>
            <a:ext cx="4915080" cy="3294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447920" y="2712960"/>
            <a:ext cx="624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a cumulus cloud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447920" y="2712960"/>
            <a:ext cx="624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Is the lowest cloud found in the sk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447920" y="2714400"/>
            <a:ext cx="624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a stratus cloud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447920" y="4176360"/>
            <a:ext cx="624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Represents th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514600" y="1143000"/>
            <a:ext cx="4267080" cy="2692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447920" y="3077640"/>
            <a:ext cx="6705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a stratus cloud 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447920" y="2716200"/>
            <a:ext cx="624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is cloud brings rain or sno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447920" y="2714400"/>
            <a:ext cx="624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a nimbostratus cloud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447920" y="3082320"/>
            <a:ext cx="624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rozen, falling wat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447920" y="5243040"/>
            <a:ext cx="624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ooks like th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6781680" cy="4305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447920" y="3080880"/>
            <a:ext cx="624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a cirrus cloud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447920" y="2714400"/>
            <a:ext cx="624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n instrument used to measure air pressu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447920" y="3077640"/>
            <a:ext cx="624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a barometer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447920" y="317484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4647600"/>
            <a:ext cx="624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Looks like th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66880" y="1447920"/>
            <a:ext cx="3810240" cy="2857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47920" y="3079440"/>
            <a:ext cx="624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a rain gaug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447920" y="290016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47920" y="2716200"/>
            <a:ext cx="624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n instrument used to measure humidit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47920" y="2714400"/>
            <a:ext cx="624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a sling psychrometer 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76520" y="5090760"/>
            <a:ext cx="624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ooks like th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124080" y="685800"/>
            <a:ext cx="3251160" cy="4114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47920" y="2714400"/>
            <a:ext cx="624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an anemometer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447920" y="3079440"/>
            <a:ext cx="624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snow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447920" y="1620000"/>
            <a:ext cx="6248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kind of front that forms when a cold air mass moves underneath a warm air mas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47920" y="3079440"/>
            <a:ext cx="624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a cold fron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447920" y="4228920"/>
            <a:ext cx="624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is symbol represents this type of weath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362320" y="914400"/>
            <a:ext cx="4724280" cy="2401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447920" y="3077640"/>
            <a:ext cx="624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dry and clear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447920" y="2349360"/>
            <a:ext cx="6248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direction that most weather conditions trave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447920" y="3080880"/>
            <a:ext cx="624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 is west to eas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447920" y="4038120"/>
            <a:ext cx="624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is represent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438280" y="1295280"/>
            <a:ext cx="4121280" cy="2094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447920" y="2714400"/>
            <a:ext cx="624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a  stationary fron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447920" y="2714400"/>
            <a:ext cx="624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is develops along a cold fro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447920" y="2714400"/>
            <a:ext cx="624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a thunderstorm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447920" y="2719080"/>
            <a:ext cx="624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en raindrops are very sm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447920" y="2349360"/>
            <a:ext cx="6248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 prediction of what weather will be like for the next few day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447920" y="2347200"/>
            <a:ext cx="6248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 a weather forecas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447920" y="2347920"/>
            <a:ext cx="6248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n average of weather over a long period of tim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447920" y="3079440"/>
            <a:ext cx="624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climat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447920" y="1987920"/>
            <a:ext cx="6248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 force produced by the weight of the air pressing down on the eart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447920" y="3077640"/>
            <a:ext cx="624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air pressur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447920" y="3080880"/>
            <a:ext cx="624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ir in mo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447920" y="3077640"/>
            <a:ext cx="624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wind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447920" y="2712960"/>
            <a:ext cx="624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boundary between air mass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447920" y="3080880"/>
            <a:ext cx="624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a fron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447920" y="3077640"/>
            <a:ext cx="624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drizzl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447920" y="3080880"/>
            <a:ext cx="624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arm, moist ai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447920" y="3080880"/>
            <a:ext cx="624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humidit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00200" y="2590560"/>
            <a:ext cx="6248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 brief period of rainf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447920" y="3077640"/>
            <a:ext cx="624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a shower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447920" y="2349360"/>
            <a:ext cx="6248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now  that melts and refreezes before it hits the grou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447920" y="3080880"/>
            <a:ext cx="624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slee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Kevin Butler-Grant County High School</dc:creator>
  <dc:description/>
  <dc:language>en-US</dc:language>
  <cp:lastModifiedBy>Edgewood User</cp:lastModifiedBy>
  <dcterms:modified xsi:type="dcterms:W3CDTF">2008-12-13T19:50:18Z</dcterms:modified>
  <cp:revision>43</cp:revision>
  <dc:subject/>
  <dc:title>Napoleon</dc:title>
</cp:coreProperties>
</file>